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98C7-41A6-4671-9F62-BFC2B3B10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C18E-E71C-4140-BFCF-1C8B1210B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5D48-D5BE-4B22-8806-D464DFC1B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71EA-1760-437E-9CFE-0F09F534B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A727-B6FF-461E-B29B-9368A5F68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9F72-F7C1-4275-BE6F-9D09256D4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73FE-1EAA-40B7-9701-8679778CB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575A-3C8A-4BCD-8421-0FB74208A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0CFF-AE78-4D9F-9230-BE00E5189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2473-1C76-4FD0-BF4B-C974250F2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76DB-A696-4A8B-8C08-CB3D4C76A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DC19-0528-433A-9E18-8B3D98DF9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BAB112-958E-4D92-8CBE-BBA208D29A3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295800" y="770040"/>
            <a:ext cx="3740040" cy="4989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08040" y="1768320"/>
            <a:ext cx="4216320" cy="49896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515160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rianças aprendem brincando com as letras do alfabe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dur="indefinite" fill="hold">
                      <p:stCondLst>
                        <p:cond delay="indefinite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079640" y="1670040"/>
            <a:ext cx="4037040" cy="49896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515160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m cada letra podemos inventar uma brincadei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dur="indefinite" fill="hold">
                      <p:stCondLst>
                        <p:cond delay="indefinite"/>
                      </p:stCondLst>
                      <p:childTnLst>
                        <p:par>
                          <p:cTn id="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98400" y="1768320"/>
            <a:ext cx="4037040" cy="49896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219640" y="176004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travez de jogos o alfabeto fica mais diverti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19200" y="1800360"/>
            <a:ext cx="4240080" cy="49892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515160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m o alfabeto podemos criar atividades para o dia a d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 fill="hold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98400" y="1768320"/>
            <a:ext cx="4037040" cy="4989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22:28:43Z</dcterms:created>
  <dc:creator/>
  <dc:description/>
  <dc:language>en-US</dc:language>
  <cp:lastModifiedBy/>
  <dcterms:modified xsi:type="dcterms:W3CDTF">2010-11-25T22:57:13Z</dcterms:modified>
  <cp:revision>2</cp:revision>
  <dc:subject/>
  <dc:title/>
</cp:coreProperties>
</file>